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6BE-FD5A-4020-84AD-70451F4F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1FA-D8DD-4C13-BB46-6510FF3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737-8EF3-4094-93DD-BAE49887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3BE-8BC8-435D-9BEB-9648B120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826-AD95-4789-A4AA-0242ED13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8DC-60A5-4B91-BBF4-A5ECEC9E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015-50DA-46C1-876B-9419829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108-FD52-43E2-B540-EE8E991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A0E-63D3-4EC5-80CA-E2670336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B42-DF0F-417E-8AD3-0F1300B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5C4-2E76-4DDA-A74E-D97F80C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179-A522-40ED-AB63-0B7E1B7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B5E-E080-48B1-8FE9-149EA465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878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Calibri Light"/>
              </a:rPr>
              <a:t>Кинезитерапија цервикалног синдром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202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415120" y="182520"/>
            <a:ext cx="13618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622080"/>
            <a:ext cx="10515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sr-CS" sz="3700" spc="-1" strike="noStrike">
                <a:solidFill>
                  <a:srgbClr val="000000"/>
                </a:solidFill>
                <a:latin typeface="Calibri"/>
              </a:rPr>
              <a:t>Трајање бол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акутни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 до 4 недељ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субакутни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 4-12 недељ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хронични 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преко 12 недељ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Акутни бол: указује на оштећење-дијагностички значај. Кратко траје,лако се у 50% леч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Хронични бол: не указује на оштећење, проузрокује промену активности и квалитета живота. Дуго траје, тешко се леч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мнеза и прегле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лпаторни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ови вертебралне ар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нзиони тест брахијалног плекс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ресивни тестови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pour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рални зн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отомска и дерматомска дистрибу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ек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о: преглед рамена, пазушне јаме, тора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реба за додатним испитивањем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d fl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Мио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5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deltoideus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biceps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абдукције рамена, и флексија лакта са супинираном подлактицом, кључни мишићи по стандардној неуролошкој класификацији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лексори подлактице,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. biceps, m.brachiorad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biceps, brachialis, brachioradialis i ekstenzor carpi radialis longus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флексија у супинацији, пронацији и мед. Позицији, затим екстензија шаке са радијалном девијацијом, кључни мишић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кстензори руч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. ext. carpi radialis longus et bre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878040" y="1825560"/>
            <a:ext cx="4413240" cy="435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486400" y="194616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Мио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7: triceps,fleksor carpi radialis, fleksor digitorum radialis i extenzori šake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роз екстензију лакта и флексију шаке, кључни мишићи екстензори подлактиц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.triceps brach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8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бдуктори палца кратки и дуги, екстензор палца кратки и дуги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leksor carpi ulnaris i fleksori prstiju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роз екстензију и абдукцију палца, флексија прстију и улнарна девијација шаке, кључни мишић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лексија дисталне фаланге средњег пр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1: испитивање кроз абдукцију и адукцију прстију, кључни мишић,  абдукција малог прст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.abd.dig.min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036880" y="1146240"/>
            <a:ext cx="7485120" cy="50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75000" y="1060560"/>
            <a:ext cx="636120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779560" y="1023840"/>
            <a:ext cx="543240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16320" y="755640"/>
            <a:ext cx="73594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838080" y="561960"/>
            <a:ext cx="105156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ервикални синдром је скуп симптома који се испољавају болом у вратној регији и радијацијом бола у рамена и руке, прекордијалну регију, потиљ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 подр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 (потиљ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главобоља), лопати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Лезија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n.ulnarisa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и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n.medianu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Content Placeholder 3" descr=""/>
          <p:cNvPicPr/>
          <p:nvPr/>
        </p:nvPicPr>
        <p:blipFill>
          <a:blip r:embed="rId1"/>
          <a:stretch/>
        </p:blipFill>
        <p:spPr>
          <a:xfrm>
            <a:off x="901800" y="1670040"/>
            <a:ext cx="4120920" cy="470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437080" y="1731960"/>
            <a:ext cx="4572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рма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5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терална страна надл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6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латерална страна подлакта, палца и кажипр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7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редњ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8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медијална страна подлакта, 4 и 5 т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h1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медијална страна надл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h2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к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и облиц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ирадирајући- лок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радирајућ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рвикални дискогени синдром са радикулопат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рвикални фасет синдром са иритацијом рад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еб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ipla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ртебробазиларне инсуфициј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 спиналне стен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дилолист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уларни вратни синд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ед тегоба које по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од компримованих нервних стабала код овог синдрома се вео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о с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и симптоматологија лезије симпатикуса. Симпа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и део је у овој регији састављен из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х струк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cervikale super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cervikale med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stell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нглион цервикале медиум + први торакални ганглио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е ганглион стеллатум. Из овог ганглиона иду влакна која обавијају вертебралну артерију и многи аутори га називају - задњи вратни симпатикус или вертебрални плексус. Иритација овог вазомоторног дела симпатицког система даје слику Барре - Лие-овог синдрома (синдром задњег симпатикуса). Симптоми су: вертиго, парестезија лица, фарингеалне сметње, наузеа, главобоља, тинитус, црвенило лиц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инички неуролошки прегл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pller dijagnos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T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T dijagnosti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и дискогени синдром без радикулопатиј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дикаментозна терапија: антиинфламаторна, спазмолитична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налгетска терап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зиционирање, меки оковратн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укација пациј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ТХ поступак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тивне сегментне и пасивне вежбе у безболном оби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ез покрета флексије и протракције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иметријске за в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жбе стабилизације трупа и вежбе обима покрета и снаге за Г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Цервикални фасет синдром без иритације коре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око кичменог стуба често обост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сер, импулсни  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ТХ и радна 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е сегментне и пасивне в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метријске за в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нуелна тракција из безболног поло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жбе стабилизације тр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жбе обима покрета и снаге за 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но избегавање екстензије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Локални цервикални синдром типа цервикалне спондилозе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( cephalea cerv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ови у потиљку и раменом појасу. Увек присутна главобо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ТХ поступа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е сегментн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стез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метријск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жбе стабилизације тру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жбе обима и снаге за 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напрезање трапезиус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гна 4 дана 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ol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за ра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 3 до 4 дана пацијенти могу да раде све активне вежб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стезање, при крају амплитуде притисак у правцу покрета 10 и 15 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могнуто истезање и флексија, бочна флексија и екс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 физи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г аспекта овај синдром представља скуп симптома везаних за иритацију или компресију нервних коренова у интервертебралним отворима или компресије васкуларних елемената симпатикуса. У 90% појаве овог синдрома у основи су дегенеративне промене вратне ре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Цервикални постурални синдром</a:t>
            </a:r>
            <a:br>
              <a:rPr sz="4400"/>
            </a:b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напрегнуто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и око медијалне ивице скапу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трузија гла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екција пос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ме ретракција и елевација, ретракција врата, екстензија торакалне рег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5-20 понављања током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а дископатија са радикулопатијом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ол у пределу радикса са компресијом или иритацијом једног или више нерава, једне или обе стране без знакова мијелопат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апија: 6 недеља до три месе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дикаментозна терапија: декомпресивна и антиинфламаторн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орелаксан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изикалне процедуре: аналгетске и антиинфламаторне одмах: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DS,TENS,Laser,IFS, superficijalna toplo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Т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зиционирање у безболном положа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редња висина јастука, током ноћи са убаченим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roll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укација пацијента, заштитним положај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1040" y="316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а дископатија са радикулопатијом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лежећем положају започети активне вежбе у безболном обиму, редослед: ротације и бочне флексије ка здравој страни, потом ка болесној, потом екстензија и флекси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да се смање болови у руци индикована је тракција, мануелна тракција у лежећем положају са благом флексијом у врату, потом апаратурна 2-3 пута дневно по 10-15 минута. Ако се појача бол, прекида 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грсија вежби у седећем положају, све време уз корекцију постуре (елевација и ретракција рамен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да се постигне нормалан обим, вежбе истезања и изометријске за врат, вежбе са отпором за рамени појас и екстремитете уз корекцију посту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Едука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вети при активност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почетку избегавати рад са флексијом главе дуже од неколико мину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те носити распоређен у обе рук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су прати стојећи испод туша са обе ру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лон фотеља и столица под углом од 90 ст, при одмору са благом ретракцијом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исина екрана у висини оч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бегавати дуже од 2-3 минута рад са рукама изнад хоризонтале до годину дана, након симптома праћених радикулопатским манифестација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том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ла испод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2 су напред 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, а назад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. На горњој страни су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наставци -процессус унцинатус. Унковертебрални зглоб-Лушка настаје узглобљавањем овог наставка са телом пршљена. Два суседна пршљена су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бно везана са пет зглобова: два задња апофизарна, два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унковертебрална и дискусном творевином.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делови процесус унцинатус су меха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 заштита за нервне коренове од пролапса diskus intervertebr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том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ртерија вертебралис, која пролази кроз отворе на процесусима трансверсусима, у присном је контакту са костима и обавијена је густим омотацем симпатикусних влакана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 при иритацији условљава њену инсуфицијенцију и појаву вертебробасиларне инсуфицијенције (Barre-Lie-ov sindr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утна 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ња дискалне структуре настају само у сл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ју 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трауматизације, где се посебно и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трзајна повреда врата (саоб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јни удеси) и директно вертикално савијање (скок са платформе на главу у плитку воду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ро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ромене не захватају само дискус интервертебралис 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остале структуре, апофизарне зглобове као и интервертебралне зглобове, мека ткива, лигаментарно ми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труктуре. Свака промена која смањује промер интервертебралног отвора компромитује функцију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ог корена и манифестује се радикуларном симптоматологијом. На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ш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промене су појава остеофита 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5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6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7. Предњи остеофити могу притиснути на ес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гус, па се могу јавити дисфаг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метњ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кросублуксације - кулминација - радикуларна симптоматологија - цервикобрахиалгија.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 Palm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води да није 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изолована дегенерација једног дискуса 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д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е промене 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Аутопсијом је 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о да се ове промене развијају углавном 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кад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асификација бола у врату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792000" y="1822320"/>
            <a:ext cx="10564920" cy="43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22:00:10Z</dcterms:created>
  <dc:creator>katarinaparezanovicilic@gmail.com</dc:creator>
  <dc:description/>
  <dc:language>en-US</dc:language>
  <cp:lastModifiedBy>Kaca</cp:lastModifiedBy>
  <dcterms:modified xsi:type="dcterms:W3CDTF">2024-08-29T15:44:17Z</dcterms:modified>
  <cp:revision>56</cp:revision>
  <dc:subject/>
  <dc:title>ВРСТЕ ВЕЖБИ</dc:title>
</cp:coreProperties>
</file>